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F8F4-BB9C-43CC-9A42-FF210F022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7412-A75B-4FED-87CE-E143A3DB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5A3E-1397-46FD-8F72-C22CBEC81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7F72-0584-4EE3-AD9E-E95F0DE34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6545-CC80-426A-89B9-D0D50664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8BA2-E110-473D-9F07-20E6C016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9852-6D91-4314-8671-3B0D0FF5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C926-D2C9-45CA-9DBF-09CAD861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5197-B0CB-44E9-BEAE-35932196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AE9D-C1B3-47F5-AF32-4E7EC835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493B-44C3-41F5-9D3E-2060B82A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6EDA-CB60-42C1-9608-640D089E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9B83B-36D9-4595-B203-7CF9C6A8912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leão" descr=""/>
          <p:cNvPicPr/>
          <p:nvPr/>
        </p:nvPicPr>
        <p:blipFill>
          <a:blip r:embed=""/>
          <a:stretch/>
        </p:blipFill>
        <p:spPr>
          <a:xfrm>
            <a:off x="320760" y="2519280"/>
            <a:ext cx="4775040" cy="3600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040360" y="1079640"/>
            <a:ext cx="46576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Um Leão foi acordado por um Rato que passou correndo sobre seu rosto. Com um salto ágil ele o capturou e estava pronto para matá-lo, quando o Rato suplicou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219640" y="176004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- Se o senhor poupasse minha vida, tenho certeza que poderia um dia retribuir sua bon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O Leão deu uma gargalhada de desprezo e o solto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raton" descr=""/>
          <p:cNvPicPr/>
          <p:nvPr/>
        </p:nvPicPr>
        <p:blipFill>
          <a:blip r:embed=""/>
          <a:stretch/>
        </p:blipFill>
        <p:spPr>
          <a:xfrm>
            <a:off x="720720" y="900000"/>
            <a:ext cx="414036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859280" y="1440000"/>
            <a:ext cx="44258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ff0000"/>
                </a:solidFill>
                <a:latin typeface="Arial"/>
              </a:rPr>
              <a:t>Aconteceu que pouco depois disso o Leão foi capturado por caçadores que o amarraram com fortes cordas no ch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cat12" descr=""/>
          <p:cNvPicPr/>
          <p:nvPr/>
        </p:nvPicPr>
        <p:blipFill>
          <a:blip r:embed=""/>
          <a:stretch/>
        </p:blipFill>
        <p:spPr>
          <a:xfrm>
            <a:off x="360360" y="1800360"/>
            <a:ext cx="4361040" cy="37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933440" y="860400"/>
            <a:ext cx="4426200" cy="561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ff0000"/>
                </a:solidFill>
                <a:latin typeface="Arial"/>
              </a:rPr>
              <a:t>O Rato, reconhecendo seu rugido, se aproximou, roeu as cordas e libertou-o dizend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ff0000"/>
                </a:solidFill>
                <a:latin typeface="Arial"/>
              </a:rPr>
              <a:t>- O senhor achou ridículo a idéia de que eu jamais seria capaz de ajudá-lo. Nunca esperava receber de mim qualquer compensação pelo seu favor; Mas agora sabe que é possivel mesmo a um Rato conceber um favor a um poderoso Leã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ani_063" descr=""/>
          <p:cNvPicPr/>
          <p:nvPr/>
        </p:nvPicPr>
        <p:blipFill>
          <a:blip r:embed=""/>
          <a:stretch/>
        </p:blipFill>
        <p:spPr>
          <a:xfrm>
            <a:off x="720720" y="1619280"/>
            <a:ext cx="4421160" cy="43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9280" y="5580000"/>
            <a:ext cx="9360000" cy="154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23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ral da Histó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pequenos amigos podem se revelar grandes ali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oh_turma_glitter_01" descr=""/>
          <p:cNvPicPr/>
          <p:nvPr/>
        </p:nvPicPr>
        <p:blipFill>
          <a:blip r:embed=""/>
          <a:stretch/>
        </p:blipFill>
        <p:spPr>
          <a:xfrm>
            <a:off x="1079640" y="360360"/>
            <a:ext cx="7920000" cy="48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1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21:23:31Z</dcterms:created>
  <dc:creator/>
  <dc:description/>
  <dc:language>en-US</dc:language>
  <cp:lastModifiedBy/>
  <cp:revision>1</cp:revision>
  <dc:subject/>
  <dc:title/>
</cp:coreProperties>
</file>